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BA836-9584-4C0B-B7CF-78FF93B3A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C583E-8FA1-461A-B822-EFAC0F4B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83A1F-5283-4A17-A643-560782928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87794-FA2C-427B-91DE-75E223754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45A9-93A5-48F8-81C5-52F237086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73D1-42AC-4229-828B-DAAB63C7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B5F4-850C-4642-8515-5AFF9C5F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6AEC-F661-4950-9812-60D259E2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8B8D-EFA7-4247-9730-48725D4C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8E5F-E923-44A6-B2AB-A0D02A19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E74B-647B-4E25-B92F-93D38234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C0F58-FCA5-4F12-BE64-D349FF4E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CA75-9067-49EF-9490-21182076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BE16-0F73-453C-99C6-6A3E527C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AEAB-8ABF-4BB3-9301-4F490F6F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6FA4-8809-4E66-810E-59EF31429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181F9-F347-4425-A084-01D724D31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8E14F-0064-4058-9DA7-E0615C8B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6134B-BC8F-42A0-8D5C-76B2119C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2548E-4AC2-4AE4-84B1-9F8AF79B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FAABD-5ADD-4138-9EE2-828EFAA7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31251-A66A-4932-BE1E-1C0E6F45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45E64-E315-43B3-99C3-B066DDE0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E4319-D351-46DD-A17B-70B73246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BAD5-5B3B-4134-87E0-69CBC71FF0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508A-8534-4EDF-9387-C5600CE631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eaking a Double Column Transposition Cipher Help Pres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yptanalysis of a D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3920" y="1936800"/>
            <a:ext cx="830124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weakness of the double column transposition cipher lies in the use of the same pair of keys on several plaintext messages all of the same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if the following 4 messages between Bob and Alice were intercept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16480" y="3309840"/>
            <a:ext cx="75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tmai atecb bsbnq xivjb eecqu heikn oxlct sedwn oowq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xda aqmue caeon io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16480" y="4100400"/>
            <a:ext cx="75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nbt tjliu eeyhq xotbi dttqy dwbml bxooa oweal hoaq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xbh tqaut iekau woc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16480" y="4919760"/>
            <a:ext cx="75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nat rtwle bocoq xhofb aurqe oxino oxlir defar uhoq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xbn nqttn cgwoo rt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6480" y="5700600"/>
            <a:ext cx="758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wsbe lymtt ernrq xtnei olfqt lebne uxorb okorl ocmq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exru oqwhe oogao aac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B7F4D-8524-4F49-9783-A1024952FA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all 4 messages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 dep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 that is one on top of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 it as a large anagramming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6120" y="4038480"/>
            <a:ext cx="8288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tmai atecb bsbnq xivjb eecqu heikn oxlct sedwn oowqq texda aqmue caeon io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nbt tjliu eeyhq xotbi dttqy dwbml bxooa oweal hoaqp nexbh tqaut iekau woc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nat rtwle bocoq xhofb aurqe oxino oxlir defar uhoqe mexbn nqttn cgwoo rt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wsbe lymtt ernrq xtnei olfqt lebne uxorb okorl ocmqf iexru oqwhe oogao aac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86880" y="5576760"/>
            <a:ext cx="52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umns of “x” should all go to th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440080" y="3773520"/>
            <a:ext cx="6057720" cy="295200"/>
            <a:chOff x="2440080" y="3773520"/>
            <a:chExt cx="6057720" cy="295200"/>
          </a:xfrm>
        </p:grpSpPr>
        <p:sp>
          <p:nvSpPr>
            <p:cNvPr id="124" name=""/>
            <p:cNvSpPr/>
            <p:nvPr/>
          </p:nvSpPr>
          <p:spPr>
            <a:xfrm>
              <a:off x="2440080" y="377352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58960" y="377352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78200" y="377352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497800" y="377352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F2CAF-C290-4343-90B8-7D370A52E5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72500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provides a special anagramming tool for Double Column Transposi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809720" y="2728800"/>
            <a:ext cx="5381640" cy="382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24333-5480-4681-90B0-C5B82560B6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11T02:09:37Z</dcterms:modified>
  <cp:revision>70</cp:revision>
  <dc:subject/>
  <dc:title>CAP Cryptographic Analysis Program</dc:title>
</cp:coreProperties>
</file>